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BF04-23BD-4C1B-9142-5D7818FB1B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3BDA-5914-4C19-BE89-02AA197BA6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327E-1EDA-4BC7-8FDB-FB474395E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CF05-E16A-4BCC-8631-2D50DCC8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9440-45F8-4B7E-9C42-F96C089C7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FE5D-7E4A-4FD7-967D-EC13AEA3A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0B33-5736-4AE9-9E10-8E64AE21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49AC-7461-41BF-A7E2-22AE9D1D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955C-77D5-44C8-B00D-E2E52036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2E17-3076-4A44-A0AC-99876C4C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0196-CC03-4423-AEDA-2D2EA573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2453-3BCF-40C0-984D-9EAD2208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87D2-A49F-4E08-9A70-AE427BDD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C9CD-9379-4061-9112-3EF4F28E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C704-B5A5-4846-AAE5-3EB9108A15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3" descr=""/>
          <p:cNvPicPr/>
          <p:nvPr/>
        </p:nvPicPr>
        <p:blipFill>
          <a:blip r:embed="rId2"/>
          <a:stretch/>
        </p:blipFill>
        <p:spPr>
          <a:xfrm>
            <a:off x="-262080" y="-225360"/>
            <a:ext cx="969804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Гликолиз – многоступенчатое бескислородное расщепление глюкоз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уммарно реакция гликолиза имеет вид :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+2АДФ + 2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РО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+ 2 НАД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+ 2АТФ + 2 НАД ∙ Н + Н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+ 2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дукт гликолиза – пировиноградная кислота (С 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) – заключает в себе значительную часть энергии, и дальнейшее ее высвобождение осуществляется в митохондриях. Здесь происходит полное окисление пировиноградной кислоты до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Этот процесс можно разделить на три основные стади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кислительное декарбоксилирование пировиноградной кислот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икл трикарбоновых кислот (цикл Кребса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ключительная стадия окисления – электронтранспортная цеп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рвая стадия- окислительное декарбоксилир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ировиноградная кислота (С 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) взаимодействует с веществом, которое называют коферментом А, в результате чего образуется ацетилкофермента с высокоэнергетической связью. При этом от молекулы пировиноградной кислоты отщепляется молекул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первая) и атомы водорода, которые запасаются в форме НАД ∙ Н + Н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икл Креб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цикл Кребса вступает ацетил–КоА, образованный на предыдущей стадии. Ацетил–КоА взаимодействует со щавелево-уксусной кислотой, в результате образуется шестиуглеродная лимонная кислота. Для этой реакции требуется энергия; ее поставляет высокоэнергетическая связь ацетил–КоА. В конце цикла щавелево-лимонная кислота регенерируется в прежнем виде. Теперь она способна вступить в реакцию с новой молекулой ацетил–КоА, и цикл повторяется. Суммарно реакция цикла может быть выражена следующим уравнением: 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цетил-КоА + 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+ 3НАД + ФАД + АДФ + Н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О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А + 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+ 3НАД ∙ Н + Н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+ФАД ∙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+ АТФ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ким образом, в результате распада одной молекулы пировиноградной кислоты в аэробной фазе (декарбоксилирование ПВК и цикла Кребса) выделяется 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4 НАД ∙ Н + Н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, ФАД ∙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Суммарно реакцию гликолиза, окислительного декарбоксилирования и цикла Кребса можно записать в следующем виде: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+ 6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+ 10 НАД + 2ФАД →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+ 4АТФ + 10 НАД ∙ Н + Н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+ 2ФАД ∙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ретья стадия – электротранспортная цепь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ары водородных атомов, отщепляемые от промежуточных продуктов в реакциях дегидрирования при гликолизе и в цикле Кребса, в конце концов, окисляются молекулярным кислородом до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 одновременным фосфолированием АДФ в АТФ. Происходит это тогда, когда водород, отделившийся от НАД ∙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ФАД ∙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передается по цепи переносчиков, встроенных во внутреннюю мембрану митохондрий. Пары атомов водорода 2Н можно рассматривать как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 Н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+ 2е . Движущей силой транспорта атомов водорода в дыхательной цепи является разность потенциал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 помощью переносчиков ионы водорода Н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ереносятся с внутренней стороны мембраны на ее внешнюю сторону, иначе говоря, из матрикса митохондрии в межмембранное пространств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258400" cy="657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*При переносе пары электронов от над на кислород они пересекают мембрану три раза, и этот процесс сопровождается выделением на внешнюю сторону мембраны шести протонов. На заключительном этапе протоны переносятся на внутреннюю сторону мембраны и акцептируются кислородом: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Ѕ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+ 2е  →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результате такого переноса ионов Н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 внешнюю сторону мембраны митохондрий в перимитохондриальном пространстве создается  их концентрация, т.е. возникает электрохимический градиент протонов . Когда протонный градиент достигает определенной величины, ионы водорода из Н -резервуара движутся по специальным каналам в мембране, и их запас энергии используется для синтеза АТФ. В матриксе они соединяются с заряженными частичками О , и образуется вода: 2Н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О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ˉ →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кислительное фосфолирование-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цесс образования АТФ в результате переноса ионов Н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через мембрану митохондрии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уществляется при участии фермента АТФ-синтетазы. Молекулы АТФ-синтетазы располагаются в виде сферических гранул на внутренней стороне внутренней мембраны митохондр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результате расщепления двух молекул пировиноградной кислоты и переноса ионов водорода через мембрану по специальным каналам синтезируется в целом 36 молекул АТФ (2 молекулы в цикле Кребса и 34 молекулы в результате переноса ионов Н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через мембрану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уммарное уравнение аэробного дых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+ 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38АДФ + 38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Р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+ 1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38АТ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наэробное дых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окисления органических или неорганических веществ используется не молекулярный кислород, а другие окисленные соединения, например, соли азотной, серной и угольной кислот, превращающиеся при этом в более восстановленные соединения. Процессы идут в анаэробных условиях, и их называют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анаэробным дыханием: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HN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+ 1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→ 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+ 6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 + 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+ 8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→ 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 + 4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ипы анаэробного дых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57200" y="1600200"/>
          <a:ext cx="8229600" cy="3301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нергетический проце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ечный акцептор электро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дукты восстано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тратное дыхание и нитрифик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, NO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, NO, N 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, N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льфатное и серное дых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-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, S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лезное ” дых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 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3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 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рбонатное дых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Н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, аце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умаратное дых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ума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кцин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Если нарушен синтез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ff"/>
                </a:solidFill>
                <a:latin typeface="Calibri"/>
              </a:rPr>
              <a:t>ИНСУЛИН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сулин — универсальный анаболический гормон. Он не только понижает содержание сахара в крови, но, задерживая распад гликогена, увеличивает использование глюкозы клетк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ким образом, гормоны поджелудочной железы контролируют снабжение клеток и тканей глюкозой, поддерживают ее постоянный гомеостатический уровень в крови. Они регулируют также жировой обмен, так как углеводы и липиды могут превращаться друг в друг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ДИАБЕТ САХАРНЫ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diabetes mellitus; синоним: сахарная болезнь, сахарное мочеизнурение), болезнь обмена веществ, при котором, в первую очередь, нарушается углеводный обмен. Это заболевание характеризуется поражением всех внутренних органов с изменением их функциональной способ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харный диабет — это болезнь, которая стала </a:t>
            </a: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бичом ве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— она охватывает 3% населения земного шара. Среди других заболеваний сахарный диабет </a:t>
            </a: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занимает 3-е место по смертност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6%) после сердечно-сосудистых (51%) и онкологических (17%) заболевани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Прямоугольник 1" descr=""/>
          <p:cNvPicPr/>
          <p:nvPr/>
        </p:nvPicPr>
        <p:blipFill>
          <a:blip r:embed="rId1"/>
          <a:stretch/>
        </p:blipFill>
        <p:spPr>
          <a:xfrm>
            <a:off x="328680" y="30240"/>
            <a:ext cx="8516880" cy="828720"/>
          </a:xfrm>
          <a:prstGeom prst="rect">
            <a:avLst/>
          </a:prstGeom>
          <a:ln w="0">
            <a:noFill/>
          </a:ln>
        </p:spPr>
      </p:pic>
      <p:sp>
        <p:nvSpPr>
          <p:cNvPr id="205" name="TextBox 2"/>
          <p:cNvSpPr/>
          <p:nvPr/>
        </p:nvSpPr>
        <p:spPr>
          <a:xfrm>
            <a:off x="3500280" y="6429240"/>
            <a:ext cx="221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onstantia"/>
              </a:rPr>
              <a:t>Резанова Е.А. и др,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Скругленный прямоугольник 3"/>
          <p:cNvGrpSpPr/>
          <p:nvPr/>
        </p:nvGrpSpPr>
        <p:grpSpPr>
          <a:xfrm>
            <a:off x="2084400" y="768240"/>
            <a:ext cx="4687920" cy="804960"/>
            <a:chOff x="2084400" y="768240"/>
            <a:chExt cx="4687920" cy="804960"/>
          </a:xfrm>
        </p:grpSpPr>
        <p:pic>
          <p:nvPicPr>
            <p:cNvPr id="207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2084400" y="768240"/>
              <a:ext cx="46879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2174760" y="888840"/>
              <a:ext cx="4508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Constantia"/>
                </a:rPr>
                <a:t>Взаимное превращение веществ в организм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Скругленный прямоугольник 5"/>
          <p:cNvGrpSpPr/>
          <p:nvPr/>
        </p:nvGrpSpPr>
        <p:grpSpPr>
          <a:xfrm>
            <a:off x="2011320" y="3395520"/>
            <a:ext cx="5261040" cy="749520"/>
            <a:chOff x="2011320" y="3395520"/>
            <a:chExt cx="5261040" cy="749520"/>
          </a:xfrm>
        </p:grpSpPr>
        <p:pic>
          <p:nvPicPr>
            <p:cNvPr id="210" name="Скругленный 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2011320" y="3395520"/>
              <a:ext cx="526104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2103480" y="3460680"/>
              <a:ext cx="5079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Constantia"/>
                </a:rPr>
                <a:t>Регуляция обмена вещест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Скругленный прямоугольник 6"/>
          <p:cNvSpPr/>
          <p:nvPr/>
        </p:nvSpPr>
        <p:spPr>
          <a:xfrm>
            <a:off x="3929040" y="2000160"/>
            <a:ext cx="16430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ел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Скругленный прямоугольник 7"/>
          <p:cNvSpPr/>
          <p:nvPr/>
        </p:nvSpPr>
        <p:spPr>
          <a:xfrm>
            <a:off x="1928880" y="2571840"/>
            <a:ext cx="16430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Жи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кругленный прямоугольник 8"/>
          <p:cNvSpPr/>
          <p:nvPr/>
        </p:nvSpPr>
        <p:spPr>
          <a:xfrm>
            <a:off x="5857920" y="2571840"/>
            <a:ext cx="16430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глево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Прямая со стрелкой 10"/>
          <p:cNvCxnSpPr>
            <a:stCxn id="212" idx="1"/>
            <a:endCxn id="213" idx="0"/>
          </p:cNvCxnSpPr>
          <p:nvPr/>
        </p:nvCxnSpPr>
        <p:spPr>
          <a:xfrm flipH="1">
            <a:off x="2749320" y="2286000"/>
            <a:ext cx="1180080" cy="286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Прямая со стрелкой 11"/>
          <p:cNvCxnSpPr>
            <a:stCxn id="212" idx="3"/>
            <a:endCxn id="214" idx="0"/>
          </p:cNvCxnSpPr>
          <p:nvPr/>
        </p:nvCxnSpPr>
        <p:spPr>
          <a:xfrm>
            <a:off x="5572080" y="2286000"/>
            <a:ext cx="1108800" cy="286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Прямая со стрелкой 16"/>
          <p:cNvCxnSpPr>
            <a:endCxn id="213" idx="3"/>
          </p:cNvCxnSpPr>
          <p:nvPr/>
        </p:nvCxnSpPr>
        <p:spPr>
          <a:xfrm flipH="1" flipV="1">
            <a:off x="3571560" y="2857320"/>
            <a:ext cx="22867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Прямая со стрелкой 19"/>
          <p:cNvCxnSpPr/>
          <p:nvPr/>
        </p:nvCxnSpPr>
        <p:spPr>
          <a:xfrm flipV="1">
            <a:off x="3571920" y="3071160"/>
            <a:ext cx="2286720" cy="11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" name="Скругленный прямоугольник 22"/>
          <p:cNvSpPr/>
          <p:nvPr/>
        </p:nvSpPr>
        <p:spPr>
          <a:xfrm>
            <a:off x="1000080" y="4286160"/>
            <a:ext cx="242892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ервна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кругленный прямоугольник 23"/>
          <p:cNvSpPr/>
          <p:nvPr/>
        </p:nvSpPr>
        <p:spPr>
          <a:xfrm>
            <a:off x="5715000" y="4286160"/>
            <a:ext cx="242892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уморальна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Скругленный прямоугольник 24"/>
          <p:cNvSpPr/>
          <p:nvPr/>
        </p:nvSpPr>
        <p:spPr>
          <a:xfrm>
            <a:off x="1000080" y="4857840"/>
            <a:ext cx="242892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Гипоталаму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Скругленный прямоугольник 25"/>
          <p:cNvSpPr/>
          <p:nvPr/>
        </p:nvSpPr>
        <p:spPr>
          <a:xfrm>
            <a:off x="5715000" y="4857840"/>
            <a:ext cx="2428920" cy="50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Эндокринные желез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Скругленный прямоугольник 26"/>
          <p:cNvSpPr/>
          <p:nvPr/>
        </p:nvSpPr>
        <p:spPr>
          <a:xfrm>
            <a:off x="1000080" y="5429160"/>
            <a:ext cx="2428920" cy="1214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Регуляция обмена белков, жиров, углеводов, воды, солей, обмена тепла и потребление пищ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Скругленный прямоугольник 27"/>
          <p:cNvSpPr/>
          <p:nvPr/>
        </p:nvSpPr>
        <p:spPr>
          <a:xfrm>
            <a:off x="5715000" y="5429160"/>
            <a:ext cx="2428920" cy="1285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Гормоны участвуют в регуляции ОВ и Е, влияя на проницаемость мембран, активируя ферментные системы органи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28"/>
          <p:cNvSpPr/>
          <p:nvPr/>
        </p:nvSpPr>
        <p:spPr>
          <a:xfrm>
            <a:off x="142920" y="928800"/>
            <a:ext cx="1857240" cy="20142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евращения веществ идут на ферментных системах клеток печ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4"/>
          <a:stretch/>
        </p:blipFill>
        <p:spPr>
          <a:xfrm>
            <a:off x="6858000" y="785880"/>
            <a:ext cx="2143080" cy="1585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nstantia"/>
              </a:rPr>
              <a:t>Метаболи́зм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(от греч. μεταβολή, «превращение, изменение») </a:t>
            </a: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(</a:t>
            </a:r>
            <a:r>
              <a:rPr b="1" lang="ru-RU" sz="3200" spc="-1" strike="noStrike">
                <a:solidFill>
                  <a:srgbClr val="c00000"/>
                </a:solidFill>
                <a:latin typeface="Constantia"/>
              </a:rPr>
              <a:t>обмен веществ)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— полный процесс превращения химических веществ в организме, обеспечивающих его рост, развитие, деятельность и жизнь в цел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Скругленный прямоугольник 3"/>
          <p:cNvGrpSpPr/>
          <p:nvPr/>
        </p:nvGrpSpPr>
        <p:grpSpPr>
          <a:xfrm>
            <a:off x="225360" y="92160"/>
            <a:ext cx="2524320" cy="907920"/>
            <a:chOff x="225360" y="92160"/>
            <a:chExt cx="2524320" cy="907920"/>
          </a:xfrm>
        </p:grpSpPr>
        <p:pic>
          <p:nvPicPr>
            <p:cNvPr id="51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225360" y="92160"/>
              <a:ext cx="252432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24000" y="181080"/>
              <a:ext cx="22809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Constantia"/>
                </a:rPr>
                <a:t>Словарь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Для ассимиляции необходима Е, образующаяся в реакциях энергетического обме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Для реакций диссимиляции необходимы ферменты, образующиеся в реакциях пластического обме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Оба процесса протекают в клетке одновременно, и заключительные этапы одного обмена – начальные стадии другого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Прямоугольник 3" descr=""/>
          <p:cNvPicPr/>
          <p:nvPr/>
        </p:nvPicPr>
        <p:blipFill>
          <a:blip r:embed="rId1"/>
          <a:stretch/>
        </p:blipFill>
        <p:spPr>
          <a:xfrm>
            <a:off x="469800" y="30240"/>
            <a:ext cx="82234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Прямоугольник 1" descr=""/>
          <p:cNvPicPr/>
          <p:nvPr/>
        </p:nvPicPr>
        <p:blipFill>
          <a:blip r:embed="rId1"/>
          <a:stretch/>
        </p:blipFill>
        <p:spPr>
          <a:xfrm>
            <a:off x="1420920" y="92160"/>
            <a:ext cx="6980040" cy="895320"/>
          </a:xfrm>
          <a:prstGeom prst="rect">
            <a:avLst/>
          </a:prstGeom>
          <a:ln w="0">
            <a:noFill/>
          </a:ln>
        </p:spPr>
      </p:pic>
      <p:grpSp>
        <p:nvGrpSpPr>
          <p:cNvPr id="54" name="Скругленный прямоугольник 2"/>
          <p:cNvGrpSpPr/>
          <p:nvPr/>
        </p:nvGrpSpPr>
        <p:grpSpPr>
          <a:xfrm>
            <a:off x="298440" y="1103400"/>
            <a:ext cx="2755800" cy="828720"/>
            <a:chOff x="298440" y="1103400"/>
            <a:chExt cx="2755800" cy="828720"/>
          </a:xfrm>
        </p:grpSpPr>
        <p:pic>
          <p:nvPicPr>
            <p:cNvPr id="55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298440" y="1103400"/>
              <a:ext cx="275580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92040" y="1177920"/>
              <a:ext cx="2573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onstantia"/>
                </a:rPr>
                <a:t>Первый эта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Скругленный прямоугольник 3"/>
          <p:cNvGrpSpPr/>
          <p:nvPr/>
        </p:nvGrpSpPr>
        <p:grpSpPr>
          <a:xfrm>
            <a:off x="225360" y="3035160"/>
            <a:ext cx="2755800" cy="824040"/>
            <a:chOff x="225360" y="3035160"/>
            <a:chExt cx="2755800" cy="824040"/>
          </a:xfrm>
        </p:grpSpPr>
        <p:pic>
          <p:nvPicPr>
            <p:cNvPr id="58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225360" y="3035160"/>
              <a:ext cx="275580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320760" y="3106800"/>
              <a:ext cx="2573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onstantia"/>
                </a:rPr>
                <a:t>Второй эта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Скругленный прямоугольник 4"/>
          <p:cNvGrpSpPr/>
          <p:nvPr/>
        </p:nvGrpSpPr>
        <p:grpSpPr>
          <a:xfrm>
            <a:off x="225360" y="4896000"/>
            <a:ext cx="2755800" cy="749160"/>
            <a:chOff x="225360" y="4896000"/>
            <a:chExt cx="2755800" cy="749160"/>
          </a:xfrm>
        </p:grpSpPr>
        <p:pic>
          <p:nvPicPr>
            <p:cNvPr id="61" name="Скругленный 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225360" y="4896000"/>
              <a:ext cx="275580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17520" y="4960800"/>
              <a:ext cx="2579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onstantia"/>
                </a:rPr>
                <a:t>Третий эта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Скругленный прямоугольник 5"/>
          <p:cNvSpPr/>
          <p:nvPr/>
        </p:nvSpPr>
        <p:spPr>
          <a:xfrm>
            <a:off x="3143160" y="1143000"/>
            <a:ext cx="5643720" cy="157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ерментативное расщепление белков, жиров и углеводов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6"/>
          <p:cNvSpPr/>
          <p:nvPr/>
        </p:nvSpPr>
        <p:spPr>
          <a:xfrm>
            <a:off x="3143160" y="3071880"/>
            <a:ext cx="5643720" cy="1571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ранспорт питательных веществ кровью к тканям и клеточный метабо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7"/>
          <p:cNvSpPr/>
          <p:nvPr/>
        </p:nvSpPr>
        <p:spPr>
          <a:xfrm>
            <a:off x="3143160" y="4929120"/>
            <a:ext cx="5643720" cy="157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ыведение  конечных продуктов метаболизма в составе мочи, кала, пота, через легкие в виде CO2 и т. 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Скругленный прямоугольник 1"/>
          <p:cNvGrpSpPr/>
          <p:nvPr/>
        </p:nvGrpSpPr>
        <p:grpSpPr>
          <a:xfrm>
            <a:off x="2865600" y="103320"/>
            <a:ext cx="3547800" cy="896760"/>
            <a:chOff x="2865600" y="103320"/>
            <a:chExt cx="3547800" cy="896760"/>
          </a:xfrm>
        </p:grpSpPr>
        <p:pic>
          <p:nvPicPr>
            <p:cNvPr id="67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2865600" y="103320"/>
              <a:ext cx="354780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2967120" y="181080"/>
              <a:ext cx="33526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Constantia"/>
                </a:rPr>
                <a:t>Обмен вещест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Стрелка вниз 2"/>
          <p:cNvGrpSpPr/>
          <p:nvPr/>
        </p:nvGrpSpPr>
        <p:grpSpPr>
          <a:xfrm>
            <a:off x="2938320" y="1036800"/>
            <a:ext cx="615960" cy="536400"/>
            <a:chOff x="2938320" y="1036800"/>
            <a:chExt cx="615960" cy="536400"/>
          </a:xfrm>
        </p:grpSpPr>
        <p:pic>
          <p:nvPicPr>
            <p:cNvPr id="70" name="Стрелка вниз 2" descr=""/>
            <p:cNvPicPr/>
            <p:nvPr/>
          </p:nvPicPr>
          <p:blipFill>
            <a:blip r:embed="rId2"/>
            <a:stretch/>
          </p:blipFill>
          <p:spPr>
            <a:xfrm>
              <a:off x="2938320" y="1036800"/>
              <a:ext cx="61596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125880" y="1071720"/>
              <a:ext cx="249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Стрелка вниз 3"/>
          <p:cNvGrpSpPr/>
          <p:nvPr/>
        </p:nvGrpSpPr>
        <p:grpSpPr>
          <a:xfrm>
            <a:off x="5797440" y="1036800"/>
            <a:ext cx="615960" cy="536400"/>
            <a:chOff x="5797440" y="1036800"/>
            <a:chExt cx="615960" cy="536400"/>
          </a:xfrm>
        </p:grpSpPr>
        <p:pic>
          <p:nvPicPr>
            <p:cNvPr id="73" name="Стрелка вниз 3" descr=""/>
            <p:cNvPicPr/>
            <p:nvPr/>
          </p:nvPicPr>
          <p:blipFill>
            <a:blip r:embed="rId3"/>
            <a:stretch/>
          </p:blipFill>
          <p:spPr>
            <a:xfrm>
              <a:off x="5797440" y="1036800"/>
              <a:ext cx="61596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5983200" y="1071720"/>
              <a:ext cx="249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Скругленный прямоугольник 5"/>
          <p:cNvGrpSpPr/>
          <p:nvPr/>
        </p:nvGrpSpPr>
        <p:grpSpPr>
          <a:xfrm>
            <a:off x="5370480" y="1609560"/>
            <a:ext cx="3541680" cy="1322640"/>
            <a:chOff x="5370480" y="1609560"/>
            <a:chExt cx="3541680" cy="1322640"/>
          </a:xfrm>
        </p:grpSpPr>
        <p:pic>
          <p:nvPicPr>
            <p:cNvPr id="76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5370480" y="1609560"/>
              <a:ext cx="3541680" cy="132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487840" y="1701720"/>
              <a:ext cx="3311640" cy="10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</a:rPr>
                <a:t>Энергетический обме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</a:rPr>
                <a:t>(диссимиляция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</a:rPr>
                <a:t>катаболизм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Скругленный прямоугольник 6"/>
          <p:cNvGrpSpPr/>
          <p:nvPr/>
        </p:nvGrpSpPr>
        <p:grpSpPr>
          <a:xfrm>
            <a:off x="225360" y="1609560"/>
            <a:ext cx="3541680" cy="1322640"/>
            <a:chOff x="225360" y="1609560"/>
            <a:chExt cx="3541680" cy="1322640"/>
          </a:xfrm>
        </p:grpSpPr>
        <p:pic>
          <p:nvPicPr>
            <p:cNvPr id="79" name="Скругленный 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225360" y="1609560"/>
              <a:ext cx="3541680" cy="132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344520" y="1701720"/>
              <a:ext cx="3311640" cy="10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</a:rPr>
                <a:t>Пластический обме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</a:rPr>
                <a:t>(ассимиляция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</a:rPr>
                <a:t>анаболизм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Скругленный прямоугольник 7"/>
          <p:cNvSpPr/>
          <p:nvPr/>
        </p:nvSpPr>
        <p:spPr>
          <a:xfrm>
            <a:off x="285840" y="3000240"/>
            <a:ext cx="3500280" cy="3286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8"/>
          <p:cNvSpPr/>
          <p:nvPr/>
        </p:nvSpPr>
        <p:spPr>
          <a:xfrm>
            <a:off x="5429160" y="3000240"/>
            <a:ext cx="3500640" cy="3286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6"/>
          <a:stretch/>
        </p:blipFill>
        <p:spPr>
          <a:xfrm>
            <a:off x="3500280" y="4505400"/>
            <a:ext cx="2222640" cy="2352600"/>
          </a:xfrm>
          <a:prstGeom prst="rect">
            <a:avLst/>
          </a:prstGeom>
          <a:ln w="0">
            <a:noFill/>
          </a:ln>
        </p:spPr>
      </p:pic>
      <p:sp>
        <p:nvSpPr>
          <p:cNvPr id="84" name="TextBox 10"/>
          <p:cNvSpPr/>
          <p:nvPr/>
        </p:nvSpPr>
        <p:spPr>
          <a:xfrm>
            <a:off x="571680" y="3357720"/>
            <a:ext cx="307152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вокупность реакций расщепления сложных органических веществ (в том числе и пищевых) до более простых, сопровождающихся </a:t>
            </a: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выделением энер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1"/>
          <p:cNvSpPr/>
          <p:nvPr/>
        </p:nvSpPr>
        <p:spPr>
          <a:xfrm>
            <a:off x="5572080" y="3714840"/>
            <a:ext cx="3071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вокупность реакции синтеза сложных органических молекул из более простых с </a:t>
            </a: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накоплением энер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Прямоугольник 1" descr=""/>
          <p:cNvPicPr/>
          <p:nvPr/>
        </p:nvPicPr>
        <p:blipFill>
          <a:blip r:embed="rId1"/>
          <a:stretch/>
        </p:blipFill>
        <p:spPr>
          <a:xfrm>
            <a:off x="1494000" y="92160"/>
            <a:ext cx="6821280" cy="895320"/>
          </a:xfrm>
          <a:prstGeom prst="rect">
            <a:avLst/>
          </a:prstGeom>
          <a:ln w="0">
            <a:noFill/>
          </a:ln>
        </p:spPr>
      </p:pic>
      <p:grpSp>
        <p:nvGrpSpPr>
          <p:cNvPr id="87" name="Скругленный прямоугольник 2"/>
          <p:cNvGrpSpPr/>
          <p:nvPr/>
        </p:nvGrpSpPr>
        <p:grpSpPr>
          <a:xfrm>
            <a:off x="3651120" y="1463760"/>
            <a:ext cx="1768680" cy="755640"/>
            <a:chOff x="3651120" y="1463760"/>
            <a:chExt cx="1768680" cy="755640"/>
          </a:xfrm>
        </p:grpSpPr>
        <p:pic>
          <p:nvPicPr>
            <p:cNvPr id="88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3651120" y="1463760"/>
              <a:ext cx="17686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3746520" y="1531800"/>
              <a:ext cx="1579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Метаболиз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Скругленный прямоугольник 3"/>
          <p:cNvGrpSpPr/>
          <p:nvPr/>
        </p:nvGrpSpPr>
        <p:grpSpPr>
          <a:xfrm>
            <a:off x="298440" y="1438200"/>
            <a:ext cx="2682720" cy="781200"/>
            <a:chOff x="298440" y="1438200"/>
            <a:chExt cx="2682720" cy="781200"/>
          </a:xfrm>
        </p:grpSpPr>
        <p:pic>
          <p:nvPicPr>
            <p:cNvPr id="91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298440" y="1438200"/>
              <a:ext cx="268272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388800" y="1531800"/>
              <a:ext cx="2508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Катаболиз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(Диссимиляция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Скругленный прямоугольник 4"/>
          <p:cNvGrpSpPr/>
          <p:nvPr/>
        </p:nvGrpSpPr>
        <p:grpSpPr>
          <a:xfrm>
            <a:off x="6083280" y="1438200"/>
            <a:ext cx="2828880" cy="781200"/>
            <a:chOff x="6083280" y="1438200"/>
            <a:chExt cx="2828880" cy="781200"/>
          </a:xfrm>
        </p:grpSpPr>
        <p:pic>
          <p:nvPicPr>
            <p:cNvPr id="94" name="Скругленный 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6083280" y="1438200"/>
              <a:ext cx="282888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6175440" y="1531800"/>
              <a:ext cx="2651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Анаболиз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(ассимиляция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Штриховая стрелка вправо 5"/>
          <p:cNvSpPr/>
          <p:nvPr/>
        </p:nvSpPr>
        <p:spPr>
          <a:xfrm>
            <a:off x="5572080" y="1643040"/>
            <a:ext cx="357120" cy="428760"/>
          </a:xfrm>
          <a:prstGeom prst="pi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Штриховая стрелка вправо 6"/>
          <p:cNvSpPr/>
          <p:nvPr/>
        </p:nvSpPr>
        <p:spPr>
          <a:xfrm flipH="1">
            <a:off x="3143160" y="1643040"/>
            <a:ext cx="357120" cy="428760"/>
          </a:xfrm>
          <a:prstGeom prst="pi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1214280" y="2143080"/>
            <a:ext cx="1928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Животные и растительные белки, жиры, углеводы, в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3214800" y="2357280"/>
            <a:ext cx="264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Распад органических веще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для получения энер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7215120" y="235728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Строение и р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органи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214200" y="22860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1"/>
          <p:cNvSpPr/>
          <p:nvPr/>
        </p:nvSpPr>
        <p:spPr>
          <a:xfrm>
            <a:off x="642960" y="228600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12"/>
          <p:cNvSpPr/>
          <p:nvPr/>
        </p:nvSpPr>
        <p:spPr>
          <a:xfrm>
            <a:off x="214200" y="3714840"/>
            <a:ext cx="2786040" cy="150012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onstantia"/>
              </a:rPr>
              <a:t>Получение низкомолекулярных веще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13"/>
          <p:cNvSpPr/>
          <p:nvPr/>
        </p:nvSpPr>
        <p:spPr>
          <a:xfrm>
            <a:off x="6215040" y="3714840"/>
            <a:ext cx="2786040" cy="157140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onstantia"/>
              </a:rPr>
              <a:t>Получение высокомолекулярных веще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Прямая со стрелкой 15"/>
          <p:cNvCxnSpPr/>
          <p:nvPr/>
        </p:nvCxnSpPr>
        <p:spPr>
          <a:xfrm flipV="1">
            <a:off x="7143840" y="2356920"/>
            <a:ext cx="2160" cy="14313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06" name="Скругленный прямоугольник 17"/>
          <p:cNvSpPr/>
          <p:nvPr/>
        </p:nvSpPr>
        <p:spPr>
          <a:xfrm>
            <a:off x="142920" y="2928960"/>
            <a:ext cx="92880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nstantia"/>
              </a:rPr>
              <a:t>Получаем при дыхан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кругленный прямоугольник 18"/>
          <p:cNvSpPr/>
          <p:nvPr/>
        </p:nvSpPr>
        <p:spPr>
          <a:xfrm>
            <a:off x="1214280" y="2928960"/>
            <a:ext cx="178596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nstantia"/>
              </a:rPr>
              <a:t>Получаем с      пище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19"/>
          <p:cNvSpPr/>
          <p:nvPr/>
        </p:nvSpPr>
        <p:spPr>
          <a:xfrm>
            <a:off x="785880" y="5429160"/>
            <a:ext cx="178596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Выделяем       во внешнюю сре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0"/>
          <p:cNvSpPr/>
          <p:nvPr/>
        </p:nvSpPr>
        <p:spPr>
          <a:xfrm>
            <a:off x="214200" y="614376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О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1"/>
          <p:cNvSpPr/>
          <p:nvPr/>
        </p:nvSpPr>
        <p:spPr>
          <a:xfrm>
            <a:off x="928800" y="614376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Н2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2"/>
          <p:cNvSpPr/>
          <p:nvPr/>
        </p:nvSpPr>
        <p:spPr>
          <a:xfrm>
            <a:off x="1500120" y="614376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Продукты распа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Прямая со стрелкой 24"/>
          <p:cNvCxnSpPr/>
          <p:nvPr/>
        </p:nvCxnSpPr>
        <p:spPr>
          <a:xfrm flipH="1">
            <a:off x="285120" y="2643120"/>
            <a:ext cx="1080" cy="15724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3" name="Прямая со стрелкой 28"/>
          <p:cNvCxnSpPr/>
          <p:nvPr/>
        </p:nvCxnSpPr>
        <p:spPr>
          <a:xfrm flipH="1">
            <a:off x="928080" y="2571840"/>
            <a:ext cx="1080" cy="12866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4" name="Прямая со стрелкой 29"/>
          <p:cNvCxnSpPr/>
          <p:nvPr/>
        </p:nvCxnSpPr>
        <p:spPr>
          <a:xfrm flipH="1">
            <a:off x="2285280" y="2857320"/>
            <a:ext cx="1080" cy="9291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5" name="Прямая со стрелкой 34"/>
          <p:cNvCxnSpPr/>
          <p:nvPr/>
        </p:nvCxnSpPr>
        <p:spPr>
          <a:xfrm flipH="1">
            <a:off x="499320" y="4928760"/>
            <a:ext cx="1080" cy="1143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" name="Прямая со стрелкой 37"/>
          <p:cNvCxnSpPr/>
          <p:nvPr/>
        </p:nvCxnSpPr>
        <p:spPr>
          <a:xfrm flipH="1">
            <a:off x="1071000" y="5143320"/>
            <a:ext cx="1080" cy="9291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7" name="Прямая со стрелкой 39"/>
          <p:cNvCxnSpPr/>
          <p:nvPr/>
        </p:nvCxnSpPr>
        <p:spPr>
          <a:xfrm>
            <a:off x="2284920" y="5143680"/>
            <a:ext cx="1080" cy="1072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8" name="Овал 43"/>
          <p:cNvSpPr/>
          <p:nvPr/>
        </p:nvSpPr>
        <p:spPr>
          <a:xfrm>
            <a:off x="3071880" y="3857760"/>
            <a:ext cx="1357200" cy="107136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Constantia"/>
              </a:rPr>
              <a:t>Выделяется энерг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44"/>
          <p:cNvSpPr/>
          <p:nvPr/>
        </p:nvSpPr>
        <p:spPr>
          <a:xfrm>
            <a:off x="4786200" y="3857760"/>
            <a:ext cx="1357560" cy="107136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Constantia"/>
              </a:rPr>
              <a:t>Запасается энерг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c00000"/>
                </a:solidFill>
                <a:latin typeface="Constantia"/>
              </a:rPr>
              <a:t>(АТФ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5"/>
          <p:cNvSpPr/>
          <p:nvPr/>
        </p:nvSpPr>
        <p:spPr>
          <a:xfrm>
            <a:off x="5643720" y="2786040"/>
            <a:ext cx="12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Тепловая 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6"/>
          <p:cNvSpPr/>
          <p:nvPr/>
        </p:nvSpPr>
        <p:spPr>
          <a:xfrm>
            <a:off x="3286080" y="3286080"/>
            <a:ext cx="2643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Энергия АТФ использу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для всех жизне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роцес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7"/>
          <p:cNvSpPr/>
          <p:nvPr/>
        </p:nvSpPr>
        <p:spPr>
          <a:xfrm>
            <a:off x="3357720" y="5072040"/>
            <a:ext cx="26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Е химических связ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8"/>
          <p:cNvSpPr/>
          <p:nvPr/>
        </p:nvSpPr>
        <p:spPr>
          <a:xfrm>
            <a:off x="2714760" y="564372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Тепловая 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9"/>
          <p:cNvSpPr/>
          <p:nvPr/>
        </p:nvSpPr>
        <p:spPr>
          <a:xfrm>
            <a:off x="3429000" y="6000840"/>
            <a:ext cx="264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Синтез органических веществ, свойственных человеку, с поглощением 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Выгнутая вниз стрелка 61"/>
          <p:cNvSpPr/>
          <p:nvPr/>
        </p:nvSpPr>
        <p:spPr>
          <a:xfrm>
            <a:off x="3286080" y="4929120"/>
            <a:ext cx="2786040" cy="928800"/>
          </a:xfrm>
          <a:custGeom>
            <a:avLst/>
            <a:gdLst>
              <a:gd name="textAreaLeft" fmla="*/ 609480 w 2786040"/>
              <a:gd name="textAreaRight" fmla="*/ 2060640 w 2786040"/>
              <a:gd name="textAreaTop" fmla="*/ 124200 h 928800"/>
              <a:gd name="textAreaBottom" fmla="*/ 80460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450" hR="21600" stAng="10800000" swAng="-5400000"/>
                <a:lnTo>
                  <a:pt x="11250" y="21600"/>
                </a:lnTo>
                <a:arcTo wR="9450" hR="21600" stAng="5400000" swAng="-3567133"/>
                <a:lnTo>
                  <a:pt x="21300" y="5400"/>
                </a:lnTo>
                <a:lnTo>
                  <a:pt x="19800" y="0"/>
                </a:lnTo>
                <a:lnTo>
                  <a:pt x="17700" y="5400"/>
                </a:lnTo>
                <a:lnTo>
                  <a:pt x="18600" y="5400"/>
                </a:lnTo>
                <a:arcTo wR="9450" hR="21600" stAng="1832867" swAng="3423323"/>
                <a:lnTo>
                  <a:pt x="10350" y="21502"/>
                </a:lnTo>
                <a:arcTo wR="9450" hR="21600" stAng="5543810" swAng="5256190"/>
                <a:close/>
              </a:path>
              <a:path fill="darkenLess" w="21600" h="21600">
                <a:moveTo>
                  <a:pt x="0" y="0"/>
                </a:moveTo>
                <a:arcTo wR="9450" hR="21600" stAng="10800000" swAng="-5400000"/>
                <a:lnTo>
                  <a:pt x="11250" y="21600"/>
                </a:lnTo>
                <a:arcTo wR="9450" hR="21600" stAng="5400000" swAng="143810"/>
                <a:lnTo>
                  <a:pt x="10350" y="21502"/>
                </a:lnTo>
                <a:arcTo wR="9450" hR="21600" stAng="5543810" swAng="525619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Выгнутая вниз стрелка 62"/>
          <p:cNvSpPr/>
          <p:nvPr/>
        </p:nvSpPr>
        <p:spPr>
          <a:xfrm flipV="1">
            <a:off x="3143160" y="2857320"/>
            <a:ext cx="3071880" cy="1009440"/>
          </a:xfrm>
          <a:custGeom>
            <a:avLst/>
            <a:gdLst>
              <a:gd name="textAreaLeft" fmla="*/ 673200 w 3071880"/>
              <a:gd name="textAreaRight" fmla="*/ 2272320 w 3071880"/>
              <a:gd name="textAreaTop" fmla="*/ 135000 h 1009440"/>
              <a:gd name="textAreaBottom" fmla="*/ 874440 h 100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469" hR="21600" stAng="10800000" swAng="-5400000"/>
                <a:lnTo>
                  <a:pt x="11243" y="21600"/>
                </a:lnTo>
                <a:arcTo wR="9469" hR="21600" stAng="5400000" swAng="-3570154"/>
                <a:lnTo>
                  <a:pt x="21299" y="5400"/>
                </a:lnTo>
                <a:lnTo>
                  <a:pt x="19825" y="0"/>
                </a:lnTo>
                <a:lnTo>
                  <a:pt x="17749" y="5400"/>
                </a:lnTo>
                <a:lnTo>
                  <a:pt x="18637" y="5400"/>
                </a:lnTo>
                <a:arcTo wR="9469" hR="21600" stAng="1829846" swAng="3428440"/>
                <a:lnTo>
                  <a:pt x="10356" y="21505"/>
                </a:lnTo>
                <a:arcTo wR="9469" hR="21600" stAng="5541714" swAng="5258286"/>
                <a:close/>
              </a:path>
              <a:path fill="darkenLess" w="21600" h="21600">
                <a:moveTo>
                  <a:pt x="0" y="0"/>
                </a:moveTo>
                <a:arcTo wR="9469" hR="21600" stAng="10800000" swAng="-5400000"/>
                <a:lnTo>
                  <a:pt x="11243" y="21600"/>
                </a:lnTo>
                <a:arcTo wR="9469" hR="21600" stAng="5400000" swAng="141714"/>
                <a:lnTo>
                  <a:pt x="10356" y="21505"/>
                </a:lnTo>
                <a:arcTo wR="9469" hR="21600" stAng="5541714" swAng="5258286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трелка углом 64"/>
          <p:cNvSpPr/>
          <p:nvPr/>
        </p:nvSpPr>
        <p:spPr>
          <a:xfrm flipV="1" rot="3043200">
            <a:off x="2710440" y="4994640"/>
            <a:ext cx="928440" cy="4287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трелка углом 66"/>
          <p:cNvSpPr/>
          <p:nvPr/>
        </p:nvSpPr>
        <p:spPr>
          <a:xfrm flipV="1" rot="15028800">
            <a:off x="5750640" y="3365640"/>
            <a:ext cx="928800" cy="428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Shape 68"/>
          <p:cNvCxnSpPr>
            <a:stCxn id="103" idx="4"/>
            <a:endCxn id="104" idx="4"/>
          </p:cNvCxnSpPr>
          <p:nvPr/>
        </p:nvCxnSpPr>
        <p:spPr>
          <a:xfrm flipH="1" rot="16200000">
            <a:off x="4571280" y="2249280"/>
            <a:ext cx="72000" cy="6003000"/>
          </a:xfrm>
          <a:prstGeom prst="curvedConnector5">
            <a:avLst>
              <a:gd name="adj1" fmla="val 1784422"/>
              <a:gd name="adj2" fmla="val 50000"/>
              <a:gd name="adj3" fmla="val 1784422"/>
            </a:avLst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30" name="Shape 77"/>
          <p:cNvCxnSpPr>
            <a:stCxn id="104" idx="0"/>
            <a:endCxn id="103" idx="0"/>
          </p:cNvCxnSpPr>
          <p:nvPr/>
        </p:nvCxnSpPr>
        <p:spPr>
          <a:xfrm flipV="1" rot="16200000">
            <a:off x="4607280" y="714600"/>
            <a:ext cx="2160" cy="6001560"/>
          </a:xfrm>
          <a:prstGeom prst="curvedConnector5">
            <a:avLst>
              <a:gd name="adj1" fmla="val 69260000"/>
              <a:gd name="adj2" fmla="val 50000"/>
              <a:gd name="adj3" fmla="val 69260000"/>
            </a:avLst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31" name="TextBox 81"/>
          <p:cNvSpPr/>
          <p:nvPr/>
        </p:nvSpPr>
        <p:spPr>
          <a:xfrm>
            <a:off x="6715080" y="6357960"/>
            <a:ext cx="221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onstantia"/>
              </a:rPr>
              <a:t>Резанова Е.А. и др,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Прямоугольник 5" descr=""/>
          <p:cNvPicPr/>
          <p:nvPr/>
        </p:nvPicPr>
        <p:blipFill>
          <a:blip r:embed="rId1"/>
          <a:stretch/>
        </p:blipFill>
        <p:spPr>
          <a:xfrm>
            <a:off x="365040" y="92160"/>
            <a:ext cx="8431200" cy="895320"/>
          </a:xfrm>
          <a:prstGeom prst="rect">
            <a:avLst/>
          </a:prstGeom>
          <a:ln w="0">
            <a:noFill/>
          </a:ln>
        </p:spPr>
      </p:pic>
      <p:sp>
        <p:nvSpPr>
          <p:cNvPr id="133" name="Скругленный прямоугольник 6"/>
          <p:cNvSpPr/>
          <p:nvPr/>
        </p:nvSpPr>
        <p:spPr>
          <a:xfrm>
            <a:off x="500040" y="1143000"/>
            <a:ext cx="3429000" cy="214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Механическая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сокращение мышц, сердца, диафрагм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7"/>
          <p:cNvSpPr/>
          <p:nvPr/>
        </p:nvSpPr>
        <p:spPr>
          <a:xfrm>
            <a:off x="5072040" y="1143000"/>
            <a:ext cx="3429000" cy="214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Химиче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синтез белков, жиров, углевод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8"/>
          <p:cNvSpPr/>
          <p:nvPr/>
        </p:nvSpPr>
        <p:spPr>
          <a:xfrm>
            <a:off x="500040" y="3643200"/>
            <a:ext cx="3429000" cy="214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Электриче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передача информации по нервным волокнам в виде импульс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9"/>
          <p:cNvSpPr/>
          <p:nvPr/>
        </p:nvSpPr>
        <p:spPr>
          <a:xfrm>
            <a:off x="5072040" y="3643200"/>
            <a:ext cx="3429000" cy="214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Тепл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поддержание постоянной температуры тела, выведение избытка тепла в окружающую сред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3492360" y="5095800"/>
            <a:ext cx="1970280" cy="176868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ая соединительная линия 12"/>
          <p:cNvSpPr/>
          <p:nvPr/>
        </p:nvSpPr>
        <p:spPr>
          <a:xfrm>
            <a:off x="4500720" y="928800"/>
            <a:ext cx="0" cy="3500280"/>
          </a:xfrm>
          <a:prstGeom prst="line">
            <a:avLst/>
          </a:prstGeom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Прямая со стрелкой 14"/>
          <p:cNvCxnSpPr>
            <a:stCxn id="133" idx="3"/>
            <a:endCxn id="134" idx="1"/>
          </p:cNvCxnSpPr>
          <p:nvPr/>
        </p:nvCxnSpPr>
        <p:spPr>
          <a:xfrm>
            <a:off x="3928680" y="2214720"/>
            <a:ext cx="1143720" cy="2160"/>
          </a:xfrm>
          <a:prstGeom prst="straightConnector1">
            <a:avLst/>
          </a:prstGeom>
          <a:ln w="38160">
            <a:solidFill>
              <a:srgbClr val="e46c0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0" name="Прямая со стрелкой 15"/>
          <p:cNvCxnSpPr/>
          <p:nvPr/>
        </p:nvCxnSpPr>
        <p:spPr>
          <a:xfrm>
            <a:off x="3928680" y="4428720"/>
            <a:ext cx="1143720" cy="2520"/>
          </a:xfrm>
          <a:prstGeom prst="straightConnector1">
            <a:avLst/>
          </a:prstGeom>
          <a:ln w="38160">
            <a:solidFill>
              <a:srgbClr val="e46c0a"/>
            </a:solidFill>
            <a:miter/>
            <a:headEnd len="med" type="arrow" w="med"/>
            <a:tailEnd len="med" type="arrow" w="med"/>
          </a:ln>
        </p:spPr>
      </p:cxnSp>
      <p:sp>
        <p:nvSpPr>
          <p:cNvPr id="141" name="TextBox 16"/>
          <p:cNvSpPr/>
          <p:nvPr/>
        </p:nvSpPr>
        <p:spPr>
          <a:xfrm>
            <a:off x="6715080" y="6357960"/>
            <a:ext cx="22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onstantia"/>
              </a:rPr>
              <a:t>Л.В.Ёлкина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Прямоугольник 1" descr=""/>
          <p:cNvPicPr/>
          <p:nvPr/>
        </p:nvPicPr>
        <p:blipFill>
          <a:blip r:embed="rId1"/>
          <a:stretch/>
        </p:blipFill>
        <p:spPr>
          <a:xfrm>
            <a:off x="2114640" y="92160"/>
            <a:ext cx="4932360" cy="895320"/>
          </a:xfrm>
          <a:prstGeom prst="rect">
            <a:avLst/>
          </a:prstGeom>
          <a:ln w="0">
            <a:noFill/>
          </a:ln>
        </p:spPr>
      </p:pic>
      <p:sp>
        <p:nvSpPr>
          <p:cNvPr id="143" name="TextBox 2"/>
          <p:cNvSpPr/>
          <p:nvPr/>
        </p:nvSpPr>
        <p:spPr>
          <a:xfrm>
            <a:off x="500040" y="1214280"/>
            <a:ext cx="8501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Умственный труд  -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13500 кДж/ су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Механизирова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физический труд – 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15000 кДж/су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механизирова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физический труд –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17300 кДж/су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яжел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механизированный труд –    </a:t>
            </a: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20000 кДж/су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500040" y="4857840"/>
            <a:ext cx="814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Утомление не связано с энергозатратами а зависит от нервных процессов во время тру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6715080" y="6357960"/>
            <a:ext cx="221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onstantia"/>
              </a:rPr>
              <a:t>Резанова Е.А. и др,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Прямоугольник 1" descr=""/>
          <p:cNvPicPr/>
          <p:nvPr/>
        </p:nvPicPr>
        <p:blipFill>
          <a:blip r:embed="rId1"/>
          <a:stretch/>
        </p:blipFill>
        <p:spPr>
          <a:xfrm>
            <a:off x="4017960" y="30240"/>
            <a:ext cx="4888080" cy="828720"/>
          </a:xfrm>
          <a:prstGeom prst="rect">
            <a:avLst/>
          </a:prstGeom>
          <a:ln w="0">
            <a:noFill/>
          </a:ln>
        </p:spPr>
      </p:pic>
      <p:grpSp>
        <p:nvGrpSpPr>
          <p:cNvPr id="147" name="Скругленный прямоугольник 2"/>
          <p:cNvGrpSpPr/>
          <p:nvPr/>
        </p:nvGrpSpPr>
        <p:grpSpPr>
          <a:xfrm>
            <a:off x="225360" y="249120"/>
            <a:ext cx="3328920" cy="750960"/>
            <a:chOff x="225360" y="249120"/>
            <a:chExt cx="3328920" cy="750960"/>
          </a:xfrm>
        </p:grpSpPr>
        <p:pic>
          <p:nvPicPr>
            <p:cNvPr id="148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225360" y="249120"/>
              <a:ext cx="332892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317520" y="317520"/>
              <a:ext cx="31510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onstantia"/>
                </a:rPr>
                <a:t>Углеводы пищ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Скругленный прямоугольник 3"/>
          <p:cNvSpPr/>
          <p:nvPr/>
        </p:nvSpPr>
        <p:spPr>
          <a:xfrm>
            <a:off x="285840" y="1285920"/>
            <a:ext cx="321444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ищеварительный ка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кругленный прямоугольник 4"/>
          <p:cNvSpPr/>
          <p:nvPr/>
        </p:nvSpPr>
        <p:spPr>
          <a:xfrm>
            <a:off x="285840" y="2143080"/>
            <a:ext cx="321444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Глюкоз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5"/>
          <p:cNvSpPr/>
          <p:nvPr/>
        </p:nvSpPr>
        <p:spPr>
          <a:xfrm>
            <a:off x="285840" y="3714840"/>
            <a:ext cx="321444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ечень (гликоге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ышцы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кругленный прямоугольник 6"/>
          <p:cNvSpPr/>
          <p:nvPr/>
        </p:nvSpPr>
        <p:spPr>
          <a:xfrm>
            <a:off x="4714920" y="3643200"/>
            <a:ext cx="3214800" cy="17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кисление с выделением энер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Скругленный прямоугольник 8"/>
          <p:cNvGrpSpPr/>
          <p:nvPr/>
        </p:nvGrpSpPr>
        <p:grpSpPr>
          <a:xfrm>
            <a:off x="4651200" y="2962440"/>
            <a:ext cx="3333960" cy="755640"/>
            <a:chOff x="4651200" y="2962440"/>
            <a:chExt cx="3333960" cy="755640"/>
          </a:xfrm>
        </p:grpSpPr>
        <p:pic>
          <p:nvPicPr>
            <p:cNvPr id="155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651200" y="2962440"/>
              <a:ext cx="33339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4746600" y="3032280"/>
              <a:ext cx="31510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onstantia"/>
                </a:rPr>
                <a:t>Клет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Стрелка вниз 9"/>
          <p:cNvGrpSpPr/>
          <p:nvPr/>
        </p:nvGrpSpPr>
        <p:grpSpPr>
          <a:xfrm>
            <a:off x="1511280" y="890640"/>
            <a:ext cx="615960" cy="468360"/>
            <a:chOff x="1511280" y="890640"/>
            <a:chExt cx="615960" cy="468360"/>
          </a:xfrm>
        </p:grpSpPr>
        <p:pic>
          <p:nvPicPr>
            <p:cNvPr id="158" name="Стрелка вниз 9" descr=""/>
            <p:cNvPicPr/>
            <p:nvPr/>
          </p:nvPicPr>
          <p:blipFill>
            <a:blip r:embed="rId4"/>
            <a:stretch/>
          </p:blipFill>
          <p:spPr>
            <a:xfrm>
              <a:off x="1511280" y="890640"/>
              <a:ext cx="61596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697040" y="928800"/>
              <a:ext cx="2491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Стрелка вниз 10"/>
          <p:cNvGrpSpPr/>
          <p:nvPr/>
        </p:nvGrpSpPr>
        <p:grpSpPr>
          <a:xfrm>
            <a:off x="1511280" y="1749600"/>
            <a:ext cx="615960" cy="469800"/>
            <a:chOff x="1511280" y="1749600"/>
            <a:chExt cx="615960" cy="469800"/>
          </a:xfrm>
        </p:grpSpPr>
        <p:pic>
          <p:nvPicPr>
            <p:cNvPr id="161" name="Стрелка вниз 10" descr=""/>
            <p:cNvPicPr/>
            <p:nvPr/>
          </p:nvPicPr>
          <p:blipFill>
            <a:blip r:embed="rId5"/>
            <a:stretch/>
          </p:blipFill>
          <p:spPr>
            <a:xfrm>
              <a:off x="1511280" y="1749600"/>
              <a:ext cx="6159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697040" y="1785960"/>
              <a:ext cx="2491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Стрелка вниз 11"/>
          <p:cNvGrpSpPr/>
          <p:nvPr/>
        </p:nvGrpSpPr>
        <p:grpSpPr>
          <a:xfrm>
            <a:off x="1511280" y="2610000"/>
            <a:ext cx="615960" cy="461880"/>
            <a:chOff x="1511280" y="2610000"/>
            <a:chExt cx="615960" cy="461880"/>
          </a:xfrm>
        </p:grpSpPr>
        <p:pic>
          <p:nvPicPr>
            <p:cNvPr id="164" name="Стрелка вниз 11" descr=""/>
            <p:cNvPicPr/>
            <p:nvPr/>
          </p:nvPicPr>
          <p:blipFill>
            <a:blip r:embed="rId6"/>
            <a:stretch/>
          </p:blipFill>
          <p:spPr>
            <a:xfrm>
              <a:off x="1511280" y="2610000"/>
              <a:ext cx="615960" cy="4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1697040" y="2643120"/>
              <a:ext cx="2491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Стрелка вниз 13"/>
          <p:cNvGrpSpPr/>
          <p:nvPr/>
        </p:nvGrpSpPr>
        <p:grpSpPr>
          <a:xfrm>
            <a:off x="3724200" y="4675320"/>
            <a:ext cx="542880" cy="609480"/>
            <a:chOff x="3724200" y="4675320"/>
            <a:chExt cx="542880" cy="609480"/>
          </a:xfrm>
        </p:grpSpPr>
        <p:pic>
          <p:nvPicPr>
            <p:cNvPr id="167" name="Стрелка вниз 13" descr=""/>
            <p:cNvPicPr/>
            <p:nvPr/>
          </p:nvPicPr>
          <p:blipFill>
            <a:blip r:embed="rId7"/>
            <a:stretch/>
          </p:blipFill>
          <p:spPr>
            <a:xfrm>
              <a:off x="3724200" y="4675320"/>
              <a:ext cx="5428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 rot="16200000">
              <a:off x="3820320" y="4804200"/>
              <a:ext cx="250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4"/>
          <p:cNvSpPr/>
          <p:nvPr/>
        </p:nvSpPr>
        <p:spPr>
          <a:xfrm>
            <a:off x="4000680" y="857160"/>
            <a:ext cx="2214360" cy="8240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Фермент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тиалин, мальтаза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в ротовой пол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5"/>
          <p:cNvSpPr/>
          <p:nvPr/>
        </p:nvSpPr>
        <p:spPr>
          <a:xfrm>
            <a:off x="4000680" y="1857240"/>
            <a:ext cx="2214360" cy="8240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Фермент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амилаза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 тонком кишечни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Прямая со стрелкой 17"/>
          <p:cNvCxnSpPr>
            <a:stCxn id="169" idx="1"/>
            <a:endCxn id="150" idx="3"/>
          </p:cNvCxnSpPr>
          <p:nvPr/>
        </p:nvCxnSpPr>
        <p:spPr>
          <a:xfrm flipH="1">
            <a:off x="3499920" y="1272240"/>
            <a:ext cx="501120" cy="262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Прямая со стрелкой 20"/>
          <p:cNvCxnSpPr>
            <a:stCxn id="170" idx="1"/>
            <a:endCxn id="150" idx="3"/>
          </p:cNvCxnSpPr>
          <p:nvPr/>
        </p:nvCxnSpPr>
        <p:spPr>
          <a:xfrm flipH="1" flipV="1">
            <a:off x="3499920" y="1534320"/>
            <a:ext cx="501120" cy="615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TextBox 24"/>
          <p:cNvSpPr/>
          <p:nvPr/>
        </p:nvSpPr>
        <p:spPr>
          <a:xfrm>
            <a:off x="285840" y="5357880"/>
            <a:ext cx="3000240" cy="137376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г углевода при расщеплении дает 17,6 кД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кругленный прямоугольник 26"/>
          <p:cNvSpPr/>
          <p:nvPr/>
        </p:nvSpPr>
        <p:spPr>
          <a:xfrm>
            <a:off x="214200" y="4714920"/>
            <a:ext cx="321480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Глюкоз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Стрелка вниз 29"/>
          <p:cNvGrpSpPr/>
          <p:nvPr/>
        </p:nvGrpSpPr>
        <p:grpSpPr>
          <a:xfrm>
            <a:off x="1511280" y="4395960"/>
            <a:ext cx="615960" cy="388800"/>
            <a:chOff x="1511280" y="4395960"/>
            <a:chExt cx="615960" cy="388800"/>
          </a:xfrm>
        </p:grpSpPr>
        <p:pic>
          <p:nvPicPr>
            <p:cNvPr id="176" name="Стрелка вниз 29" descr=""/>
            <p:cNvPicPr/>
            <p:nvPr/>
          </p:nvPicPr>
          <p:blipFill>
            <a:blip r:embed="rId8"/>
            <a:stretch/>
          </p:blipFill>
          <p:spPr>
            <a:xfrm>
              <a:off x="1511280" y="4395960"/>
              <a:ext cx="6159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1697040" y="4429080"/>
              <a:ext cx="249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Скругленный прямоугольник 34"/>
          <p:cNvSpPr/>
          <p:nvPr/>
        </p:nvSpPr>
        <p:spPr>
          <a:xfrm>
            <a:off x="285840" y="3000240"/>
            <a:ext cx="321444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ров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Стрелка вниз 35"/>
          <p:cNvGrpSpPr/>
          <p:nvPr/>
        </p:nvGrpSpPr>
        <p:grpSpPr>
          <a:xfrm>
            <a:off x="1511280" y="3462480"/>
            <a:ext cx="615960" cy="396720"/>
            <a:chOff x="1511280" y="3462480"/>
            <a:chExt cx="615960" cy="396720"/>
          </a:xfrm>
        </p:grpSpPr>
        <p:pic>
          <p:nvPicPr>
            <p:cNvPr id="180" name="Стрелка вниз 35" descr=""/>
            <p:cNvPicPr/>
            <p:nvPr/>
          </p:nvPicPr>
          <p:blipFill>
            <a:blip r:embed="rId9"/>
            <a:stretch/>
          </p:blipFill>
          <p:spPr>
            <a:xfrm>
              <a:off x="1511280" y="3462480"/>
              <a:ext cx="61596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1697040" y="3500280"/>
              <a:ext cx="2491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Стрелка вниз 36"/>
          <p:cNvGrpSpPr/>
          <p:nvPr/>
        </p:nvGrpSpPr>
        <p:grpSpPr>
          <a:xfrm>
            <a:off x="3724200" y="2962440"/>
            <a:ext cx="542880" cy="609480"/>
            <a:chOff x="3724200" y="2962440"/>
            <a:chExt cx="542880" cy="609480"/>
          </a:xfrm>
        </p:grpSpPr>
        <p:pic>
          <p:nvPicPr>
            <p:cNvPr id="183" name="Стрелка вниз 36" descr=""/>
            <p:cNvPicPr/>
            <p:nvPr/>
          </p:nvPicPr>
          <p:blipFill>
            <a:blip r:embed="rId10"/>
            <a:stretch/>
          </p:blipFill>
          <p:spPr>
            <a:xfrm>
              <a:off x="3724200" y="2962440"/>
              <a:ext cx="5428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 rot="16200000">
              <a:off x="3820320" y="3089880"/>
              <a:ext cx="2505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эробное дых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окислительный процесс, в ходе которого расходуется кислор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два основных этап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- бескислородный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процессе, которого происходит постепенное расщепление субстрата с высвобождением атомов водорода и связыванием с коферментами (переносчиками типа НАД и ФАД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- кислородный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ходе которого происходит дальнейшее отщепление атомов водорода от производных дыхательного субстрата и постепенное окисление атомов водорода в результате переноса их электронов на кислоро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ажнейшими субстратами для дыхания служат углево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18:03:06Z</dcterms:created>
  <dc:creator>Светлана</dc:creator>
  <dc:description/>
  <dc:language>en-US</dc:language>
  <cp:lastModifiedBy>Admin</cp:lastModifiedBy>
  <dcterms:modified xsi:type="dcterms:W3CDTF">2012-03-27T14:54:40Z</dcterms:modified>
  <cp:revision>98</cp:revision>
  <dc:subject/>
  <dc:title>Слайд 1</dc:title>
</cp:coreProperties>
</file>